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434-D6A4-4084-8FF8-E776DB58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906-EB88-4548-B644-8605224E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93B-385D-4271-9CD5-6D65941A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CF4-9E4E-42C2-903E-E805696D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73E9-FD03-472C-BC3D-F12D211E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4936-E8F4-434C-A6AA-503CFC99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EFC3-47E8-48AB-9763-4C1F064C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089A-4585-47FB-A64A-EA53E819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95FC-6A49-4F6E-88EB-3ECB2CAA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CBB8-536B-42FE-90BE-D71A93F3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AEA9-A7A5-409F-902F-3971CFBF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C997-A42F-4A76-BFFF-8586D33D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8C0F-CAD0-4EEE-B182-D417C33A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054B-5BA0-4E28-89F0-F5B4CD9C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03CD-7200-4C23-84F5-171C771F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034D-1699-4546-A229-A5E6E824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B4AB-2483-4ECD-9205-65D49CCC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EFB-BB27-4785-A45E-71DD51EC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D49-4690-4285-B10C-7C6F980F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26E8-15A0-4C76-8B7A-87B65C85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37A-DA84-4BFE-9D66-DCD3E7CF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7B52-DF79-4E89-9FE2-C80C095E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8BA-0635-4E91-A975-34FB80F9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23E-C267-422B-9AF1-852C67C0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5FC5-4023-4662-B388-BD1214FE31C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1D58-5E45-4FEC-813D-D71B6226B68D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1337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Unit 14 Mainly revis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9295b"/>
                </a:solidFill>
                <a:latin typeface="Arial"/>
              </a:rPr>
              <a:t>Lesson 55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ook Two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help oneself to sth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此句型用于主人招待客人时，意为：别客气，随便吃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喝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……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当你应邀参加宴会时，主人会对你说这样的话。意思是让你随便吃饭和菜，有对也表示随便取某物。此句型是一句常用的客套语。主人请客人不必拘束或客气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跟在家一样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Help yourself to some chicken, Jim. – Yes, I will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 piece of cake.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有两层意思，其一是“一块蛋糕”；其二是“小菜一碟”，言外之意是“小事情”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E.g. –I’m not sure how to do this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–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It’s a piece of cake, let me show you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at a party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聚会上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day (adj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天的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日常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every day (n.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每一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-15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Part 3 Practis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ff"/>
                </a:solidFill>
                <a:latin typeface="Arial"/>
              </a:rPr>
              <a:t>Useful expressions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May I hav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ould you pass me some fish, please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Help yourself to some dumpling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ould you lik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just a littl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Yes, one more please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No, thank you.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380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80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380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8380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380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380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8380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4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9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50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7401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8401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220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602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1602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30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903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3903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2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5103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6103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1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203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8203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90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104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1104"/>
                            </p:stCondLst>
                            <p:childTnLst>
                              <p:par>
                                <p:cTn id="2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170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497520" y="836640"/>
            <a:ext cx="10149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选词填空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se are vegetable sandwiches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elp_________ (yourself, yourselves), childre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e had some noodles ____ (for, with) supper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boy ___ (in, on) the right looks like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r Wang’s son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chicken is more delicious. Do you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__________(some, any)more?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iss Gao teaches her students _______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nglish __________.(everyday,every day)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6280" y="177336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yourselves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8640" y="2262240"/>
            <a:ext cx="6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8160" y="334152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26880" y="47815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59240" y="522936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26520" y="5661000"/>
            <a:ext cx="182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very day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Rewrite the drills without changing their meaning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1. How delicious the food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__ ______ it is!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2. We need two more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need ________ ______ grape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3. What’s the price of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 ______ ______ the coat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4. We all enjoyed ourselves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We all ______ ______ ______ ______ at the get - together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5. Don’t forget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__________ to bring some food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2193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7880" y="1219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liciou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57680" y="1219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9720" y="228600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other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wo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2960" y="3276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ch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4600" y="3276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00240" y="42670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ad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2764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good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73680" y="4289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571500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member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 Recite the dialogues in the text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 Make his own dialogue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.Finish off the workbook exercises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o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Happy New Year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391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361800" y="895320"/>
            <a:ext cx="10107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根据汉语完成句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uld you like some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葡萄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ldren? They’re quite swee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Mother bought two _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西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this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ning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She never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鱼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e usually eats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牛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鸭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 swim,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t a 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兔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 can’t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5. Could you passs me some ___________ 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饺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25640" y="1282680"/>
            <a:ext cx="16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grape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96720" y="228276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watermelon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6160" y="328464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68720" y="37958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60720" y="422748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4480" y="47242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35360" y="5157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dumplings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58" name="" descr="">
            <a:hlinkClick r:id="rId2" action="ppaction://hlinksldjump"/>
          </p:cNvPr>
          <p:cNvPicPr/>
          <p:nvPr/>
        </p:nvPicPr>
        <p:blipFill>
          <a:blip r:embed="rId3"/>
          <a:srcRect l="8009" t="17613" r="33488" b="22018"/>
          <a:stretch/>
        </p:blipFill>
        <p:spPr>
          <a:xfrm>
            <a:off x="0" y="5911920"/>
            <a:ext cx="122400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708360" y="2708280"/>
            <a:ext cx="2057400" cy="1422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588000" y="0"/>
            <a:ext cx="2133720" cy="2079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762120" y="7315200"/>
            <a:ext cx="75960" cy="76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492360" y="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324000" y="2492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6084720" y="4797360"/>
            <a:ext cx="2133720" cy="1633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6948360" y="2637000"/>
            <a:ext cx="1814760" cy="18288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1476360" y="4941720"/>
            <a:ext cx="2286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Revision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Revise </a:t>
            </a:r>
            <a:r>
              <a:rPr b="0" i="1" lang="zh-CN" sz="3200" spc="-1" strike="noStrike">
                <a:solidFill>
                  <a:srgbClr val="9900ff"/>
                </a:solidFill>
                <a:latin typeface="Arial"/>
              </a:rPr>
              <a:t>Shopping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981080"/>
            <a:ext cx="518148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esentation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286000" cy="177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00400" y="41148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1871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200400" y="1523880"/>
            <a:ext cx="2644920" cy="1791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6095880" y="1447920"/>
            <a:ext cx="2743200" cy="1976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5867280" y="3733920"/>
            <a:ext cx="30178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19400"/>
            <a:ext cx="8964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Un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hicken, fish, rice, bread, beef, duck,tofu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untable Nouns: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s, grapes, melons, cakes, dumplings etc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228600"/>
            <a:ext cx="3276720" cy="2306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809880" y="22860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324480" y="304920"/>
            <a:ext cx="259092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0" y="2590920"/>
            <a:ext cx="9144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0600" y="105264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1 Practic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isten and answ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 Why does Ann want more meat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 When are Ann and her mother going to buy more food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 What did Ann’s mother buy this morning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 What else do they want to buy?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11080" y="1108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40800" y="2633760"/>
            <a:ext cx="62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en people are coming for dinner.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412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Language poin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        bough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need to do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buy sth for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me for dinne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ore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.g.  Would you like another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= Would you like one more mooncake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371600"/>
            <a:ext cx="762120" cy="380880"/>
          </a:xfrm>
          <a:custGeom>
            <a:avLst/>
            <a:gdLst>
              <a:gd name="textAreaLeft" fmla="*/ 9504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Part 2 Practis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990720" y="-3052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526fc"/>
                </a:solidFill>
                <a:latin typeface="Arial"/>
              </a:rPr>
              <a:t>Practice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53341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25560" y="1052640"/>
            <a:ext cx="7391520" cy="5543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84360" y="4005360"/>
            <a:ext cx="1073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440" y="1700280"/>
            <a:ext cx="1146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4076640"/>
            <a:ext cx="167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5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5440" y="5157720"/>
            <a:ext cx="1325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75400" y="5157720"/>
            <a:ext cx="155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￥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0 / kilo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905120" y="1246320"/>
            <a:ext cx="594360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0:04:39Z</dcterms:created>
  <dc:creator>chenhuaxiu</dc:creator>
  <dc:description/>
  <dc:language>en-US</dc:language>
  <cp:lastModifiedBy>lingao</cp:lastModifiedBy>
  <dcterms:modified xsi:type="dcterms:W3CDTF">2005-12-21T03:13:06Z</dcterms:modified>
  <cp:revision>46</cp:revision>
  <dc:subject/>
  <dc:title>Unit 14 Mainly revision  Lesson 55  Book Two</dc:title>
</cp:coreProperties>
</file>